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7B09B-8E25-46BB-8511-2E7706509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C66F-92CF-4F65-893A-92C512098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319C-0AF5-44F8-B552-A9C1E332A1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DA27-2C5B-43C9-8899-1791CCAD2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C29C-8CF9-4B8F-9047-BC60CC9A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185B-03A2-45C5-98D7-321CCBFD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90A8-4AF9-4B4A-AF36-094DC4729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71B2-5AF3-4F83-8439-939FE5F49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B959-C550-4291-8118-2F8BED2EA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C424-BAE6-4FE9-979D-94D7DA3CB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06072-9DF3-4607-83C9-2DD87A81D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FF68-A587-4F69-A57A-A5B89E2A7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4B84A-4403-45FE-9871-D8BF9D2AD47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5"/>
          <p:cNvSpPr/>
          <p:nvPr/>
        </p:nvSpPr>
        <p:spPr>
          <a:xfrm>
            <a:off x="1042920" y="907920"/>
            <a:ext cx="7345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1" i="1" lang="ru-RU" sz="3200" spc="-1" strike="noStrike">
                <a:solidFill>
                  <a:srgbClr val="cc0000"/>
                </a:solidFill>
                <a:latin typeface="Arial"/>
              </a:rPr>
              <a:t>Экологический светофор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6"/>
          <p:cNvSpPr/>
          <p:nvPr/>
        </p:nvSpPr>
        <p:spPr>
          <a:xfrm>
            <a:off x="1042920" y="580536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0000"/>
                </a:solidFill>
                <a:latin typeface="Arial"/>
              </a:rPr>
              <a:t>Разработала учитель МБОУ СОШ №9 Савина Н.Б., октябрь 2011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4680000"/>
            <a:ext cx="717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0000"/>
                </a:solidFill>
                <a:latin typeface="Arial"/>
              </a:rPr>
              <a:t>Урок - игра для 5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4" descr="3d_11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6" descr="000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000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Планета Земля и Луна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Центр галактики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46" name="zdravstvuy_skazka.mp3" descr=""/>
          <p:cNvPicPr/>
          <p:nvPr/>
        </p:nvPicPr>
        <p:blipFill>
          <a:blip r:embed="rId2"/>
          <a:stretch/>
        </p:blipFill>
        <p:spPr>
          <a:xfrm>
            <a:off x="357120" y="7142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ANd9GcTlgCCR_sYgV8Cng8KJyAYCEq00vdSyk0xpwvnrK1dbxHT_ON2Pqg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Солнечная система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ANd9GcTRRAWpz4lq2QRiKUEtkdBZJq4qTgvl57b5tU86neR8IVrKFLf10Q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8" descr="155_102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16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556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5" descr="2654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7" descr="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6T20:20:10Z</dcterms:created>
  <dc:creator>1</dc:creator>
  <dc:description/>
  <dc:language>en-US</dc:language>
  <cp:lastModifiedBy>Щелкунова Н.А.</cp:lastModifiedBy>
  <dcterms:modified xsi:type="dcterms:W3CDTF">2011-10-24T08:08:27Z</dcterms:modified>
  <cp:revision>12</cp:revision>
  <dc:subject/>
  <dc:title>Слайд 1</dc:title>
</cp:coreProperties>
</file>