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3.jpeg" ContentType="image/jpe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FC4C8-2EA7-4049-B8B2-7EE472CF6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6432-239F-4223-BF48-3C437B7C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99DE-5888-4E97-ABF5-F25706CBF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761A-8D07-4035-B676-D82004E47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23932-6AD5-4F34-98EF-CB05A867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465E-7C5F-4F60-8048-EEB36FEE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AF24-DA2C-41A7-A168-3E53911A9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17071-5F90-4E25-A2F0-DB468EA7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BE20-1E72-44C9-98FD-1C640A63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1269F-EA3A-4676-BEE7-48DD7774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ECF7-8C65-4041-8FE6-E2F39616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2CD0-FB6F-48DF-B17F-5D838845D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6005-DFF0-4C8D-BC2F-2E5AD232F5B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rosmusor.info/" TargetMode="External"/><Relationship Id="rId3" Type="http://schemas.openxmlformats.org/officeDocument/2006/relationships/hyperlink" Target="http://biodat.ru/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4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7640" y="1196640"/>
            <a:ext cx="65502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3300"/>
                </a:solidFill>
                <a:latin typeface="Arial"/>
              </a:rPr>
              <a:t>«Спасти свой город от свалок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94920" y="3500280"/>
            <a:ext cx="8010360" cy="18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Команда «Робинзоны», МБОУ СОШ №9 г.Кулеба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Члены команды: Сазанов Андрей Анатольевич, 7а , Шихова Юлия Владимиовна, 7а , Шумова Валерия Алексеевна, 8б, Коженкова Дарья Максимовна, 8б, Симонова Виктория Сергеевна, 8б, Логинов Владимир Александрович, 8б, Борисов Алексей Васильевич, 8б</a:t>
            </a:r>
            <a:r>
              <a:rPr b="0" lang="ru-RU" sz="14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1400" spc="-1" strike="noStrike">
                <a:solidFill>
                  <a:srgbClr val="990000"/>
                </a:solidFill>
                <a:latin typeface="Arial"/>
              </a:rPr>
              <a:t>Руководители: Савина Наталья Борисовна, Любшин Евгений Владимир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картинки мусор"/>
          <p:cNvPicPr/>
          <p:nvPr/>
        </p:nvPicPr>
        <p:blipFill>
          <a:blip r:embed="rId1"/>
          <a:stretch/>
        </p:blipFill>
        <p:spPr>
          <a:xfrm>
            <a:off x="7667640" y="5381640"/>
            <a:ext cx="1476360" cy="14763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i?id=467232035-52-72&amp;n=21"/>
          <p:cNvPicPr/>
          <p:nvPr/>
        </p:nvPicPr>
        <p:blipFill>
          <a:blip r:embed="rId2"/>
          <a:stretch/>
        </p:blipFill>
        <p:spPr>
          <a:xfrm>
            <a:off x="0" y="0"/>
            <a:ext cx="188604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951280" y="1341000"/>
            <a:ext cx="6192720" cy="71640"/>
          </a:xfrm>
          <a:prstGeom prst="rect">
            <a:avLst/>
          </a:prstGeom>
          <a:noFill/>
          <a:ln w="0">
            <a:noFill/>
          </a:ln>
        </p:spPr>
        <p:txBody>
          <a:bodyPr tIns="25920" bIns="259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179280" y="2708280"/>
            <a:ext cx="8640720" cy="441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Откажись</a:t>
            </a: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…от покупки ненужной вещ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чини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ремонт вещи продлит ей жизнь, съэкономит сред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Потребляй меньше…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используй вещи с большим сроком жиз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Используй повторно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ходи в магазин со своей сумк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Выбирай продукты с минимумом упаковки… </a:t>
            </a:r>
            <a:r>
              <a:rPr b="0" lang="ru-RU" sz="2000" spc="-1" strike="noStrike">
                <a:solidFill>
                  <a:srgbClr val="993300"/>
                </a:solidFill>
                <a:latin typeface="Arial"/>
              </a:rPr>
              <a:t>покупай целое, а не часть, ее не надо упаковыва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6600"/>
                </a:solidFill>
                <a:latin typeface="Arial"/>
              </a:rPr>
              <a:t>Раздельный сбор мус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8"/>
          <p:cNvSpPr/>
          <p:nvPr/>
        </p:nvSpPr>
        <p:spPr>
          <a:xfrm>
            <a:off x="539640" y="189000"/>
            <a:ext cx="64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539640" y="260280"/>
            <a:ext cx="6624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Оптимальным путем решения проблемы мусора в нашем городе мы считаем…</a:t>
            </a:r>
            <a:r>
              <a:rPr b="1" lang="ru-RU" sz="2400" spc="-1" strike="noStrike">
                <a:solidFill>
                  <a:srgbClr val="990000"/>
                </a:solidFill>
                <a:latin typeface="Arial"/>
              </a:rPr>
              <a:t>проведение бес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10" descr="картинки мусор"/>
          <p:cNvPicPr/>
          <p:nvPr/>
        </p:nvPicPr>
        <p:blipFill>
          <a:blip r:embed="rId2"/>
          <a:stretch/>
        </p:blipFill>
        <p:spPr>
          <a:xfrm>
            <a:off x="7000920" y="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1"/>
          <p:cNvSpPr/>
          <p:nvPr/>
        </p:nvSpPr>
        <p:spPr>
          <a:xfrm>
            <a:off x="324000" y="126828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3300"/>
                </a:solidFill>
                <a:latin typeface="Arial"/>
              </a:rPr>
              <a:t>Мы молодые и сильные. Когда мы вместе нам легче. Вместе мы сил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539640" y="206064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3300"/>
                </a:solidFill>
                <a:latin typeface="Arial"/>
              </a:rPr>
              <a:t>Выработка жизненной стратегии: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Diagram 5"/>
          <p:cNvGrpSpPr/>
          <p:nvPr/>
        </p:nvGrpSpPr>
        <p:grpSpPr>
          <a:xfrm>
            <a:off x="2460600" y="1231920"/>
            <a:ext cx="4154400" cy="4003560"/>
            <a:chOff x="2460600" y="1231920"/>
            <a:chExt cx="4154400" cy="4003560"/>
          </a:xfrm>
        </p:grpSpPr>
        <p:sp>
          <p:nvSpPr>
            <p:cNvPr id="92" name="_s1028"/>
            <p:cNvSpPr/>
            <p:nvPr/>
          </p:nvSpPr>
          <p:spPr>
            <a:xfrm flipH="1" flipV="1">
              <a:off x="3509640" y="3053880"/>
              <a:ext cx="515880" cy="1666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029"/>
            <p:cNvSpPr/>
            <p:nvPr/>
          </p:nvSpPr>
          <p:spPr>
            <a:xfrm>
              <a:off x="2460600" y="2347920"/>
              <a:ext cx="1077840" cy="1077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Сжигание - 2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030"/>
            <p:cNvSpPr/>
            <p:nvPr/>
          </p:nvSpPr>
          <p:spPr>
            <a:xfrm flipH="1">
              <a:off x="3903480" y="3821040"/>
              <a:ext cx="317160" cy="4399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031"/>
            <p:cNvSpPr/>
            <p:nvPr/>
          </p:nvSpPr>
          <p:spPr>
            <a:xfrm>
              <a:off x="3048120" y="4157640"/>
              <a:ext cx="1077840" cy="107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Н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интересно - 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032"/>
            <p:cNvSpPr/>
            <p:nvPr/>
          </p:nvSpPr>
          <p:spPr>
            <a:xfrm>
              <a:off x="4853160" y="3821040"/>
              <a:ext cx="318960" cy="43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033"/>
            <p:cNvSpPr/>
            <p:nvPr/>
          </p:nvSpPr>
          <p:spPr>
            <a:xfrm>
              <a:off x="4950000" y="4157640"/>
              <a:ext cx="1077840" cy="107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трудняюсь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ответить- 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034"/>
            <p:cNvSpPr/>
            <p:nvPr/>
          </p:nvSpPr>
          <p:spPr>
            <a:xfrm flipV="1">
              <a:off x="5048280" y="3052440"/>
              <a:ext cx="514440" cy="16812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035"/>
            <p:cNvSpPr/>
            <p:nvPr/>
          </p:nvSpPr>
          <p:spPr>
            <a:xfrm>
              <a:off x="5537160" y="2349360"/>
              <a:ext cx="1077840" cy="1078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хоронение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за пределам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 </a:t>
              </a: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района-2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036"/>
            <p:cNvSpPr/>
            <p:nvPr/>
          </p:nvSpPr>
          <p:spPr>
            <a:xfrm flipV="1">
              <a:off x="4537080" y="2307960"/>
              <a:ext cx="0" cy="541080"/>
            </a:xfrm>
            <a:prstGeom prst="line">
              <a:avLst/>
            </a:prstGeom>
            <a:ln w="284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037"/>
            <p:cNvSpPr/>
            <p:nvPr/>
          </p:nvSpPr>
          <p:spPr>
            <a:xfrm>
              <a:off x="3998880" y="1231920"/>
              <a:ext cx="1077840" cy="10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3333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660066"/>
                  </a:solidFill>
                  <a:latin typeface="Arial"/>
                </a:rPr>
                <a:t>Переработка - 7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038"/>
            <p:cNvSpPr/>
            <p:nvPr/>
          </p:nvSpPr>
          <p:spPr>
            <a:xfrm>
              <a:off x="3998880" y="2849400"/>
              <a:ext cx="1077840" cy="10782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cc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660066"/>
                  </a:solidFill>
                  <a:latin typeface="Arial"/>
                </a:rPr>
                <a:t>мусор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17"/>
          <p:cNvSpPr/>
          <p:nvPr/>
        </p:nvSpPr>
        <p:spPr>
          <a:xfrm>
            <a:off x="611280" y="40464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Какие способы утилизации отходов являются наиболее приемлемыми? (по результатам опрос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18" descr="картинки мусор"/>
          <p:cNvPicPr/>
          <p:nvPr/>
        </p:nvPicPr>
        <p:blipFill>
          <a:blip r:embed="rId7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5" descr="%D0%BC%D1%83%D1%81%D0%BE%D1%80"/>
          <p:cNvPicPr/>
          <p:nvPr/>
        </p:nvPicPr>
        <p:blipFill>
          <a:blip r:embed="rId1"/>
          <a:stretch/>
        </p:blipFill>
        <p:spPr>
          <a:xfrm>
            <a:off x="0" y="333360"/>
            <a:ext cx="3924360" cy="2698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9"/>
          <p:cNvSpPr/>
          <p:nvPr/>
        </p:nvSpPr>
        <p:spPr>
          <a:xfrm>
            <a:off x="4140360" y="620640"/>
            <a:ext cx="482436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Бюджет нашего плана прост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Лозунги и плакаты пишем на старых обоях (их много в каждом доме, а старых красок море у каждого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Одежду для выступлений шьем сами из старых вещей на рук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Изготовление поделок «домовенков» из старых вещей и предметов бы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66"/>
                </a:solidFill>
                <a:latin typeface="Arial"/>
              </a:rPr>
              <a:t>Фримаркет старых вещей и прочитанных книг, посуды, бытовой утва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3" descr="18965"/>
          <p:cNvPicPr/>
          <p:nvPr/>
        </p:nvPicPr>
        <p:blipFill>
          <a:blip r:embed="rId3"/>
          <a:stretch/>
        </p:blipFill>
        <p:spPr>
          <a:xfrm>
            <a:off x="0" y="3338640"/>
            <a:ext cx="4067280" cy="35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e83bb8c65e7de2f6e83f136e5cd87b95"/>
          <p:cNvPicPr/>
          <p:nvPr/>
        </p:nvPicPr>
        <p:blipFill>
          <a:blip r:embed="rId1"/>
          <a:stretch/>
        </p:blipFill>
        <p:spPr>
          <a:xfrm>
            <a:off x="179280" y="2781360"/>
            <a:ext cx="2776680" cy="3887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6156360" y="260280"/>
            <a:ext cx="2808360" cy="30974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картинки мусор"/>
          <p:cNvPicPr/>
          <p:nvPr/>
        </p:nvPicPr>
        <p:blipFill>
          <a:blip r:embed="rId4"/>
          <a:stretch/>
        </p:blipFill>
        <p:spPr>
          <a:xfrm>
            <a:off x="2700360" y="260280"/>
            <a:ext cx="3240000" cy="32400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11"/>
          <p:cNvSpPr/>
          <p:nvPr/>
        </p:nvSpPr>
        <p:spPr>
          <a:xfrm>
            <a:off x="3348000" y="364500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</a:rPr>
              <a:t>Наши лозунг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Arial"/>
              </a:rPr>
              <a:t>Ожидания от реализации нашего план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4000" y="1628640"/>
            <a:ext cx="856908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Наш город станет самым чистым и уютным на земл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Жители нашего города будут складывать песни о красоте городских окрестностей, а не частушки о свалках мус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</a:rPr>
              <a:t>Мы будем радоваться приходу весны и наблюдать как просыпается природа городских окрестностей, украшенная первоцветами, а не свалк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99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9" descr="картинки мусор"/>
          <p:cNvPicPr/>
          <p:nvPr/>
        </p:nvPicPr>
        <p:blipFill>
          <a:blip r:embed="rId1"/>
          <a:stretch/>
        </p:blipFill>
        <p:spPr>
          <a:xfrm>
            <a:off x="7020000" y="4437000"/>
            <a:ext cx="2124000" cy="242100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11"/>
          <p:cNvSpPr/>
          <p:nvPr/>
        </p:nvSpPr>
        <p:spPr>
          <a:xfrm>
            <a:off x="971640" y="620640"/>
            <a:ext cx="66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Arial"/>
              </a:rPr>
              <a:t>Источники информации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2"/>
          <p:cNvSpPr/>
          <p:nvPr/>
        </p:nvSpPr>
        <p:spPr>
          <a:xfrm>
            <a:off x="395280" y="1125360"/>
            <a:ext cx="8280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иленко И.В. Земля твой дом. –М.,Недра, 198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митриев Ю.Д.О природе для больших и маленьких. – М., Педагогика, 198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вин М. –М., детская литература, 197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rosmusor.info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5. Министерство экологии и природных ресур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biodat.ru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i?id=464967952-09-72&amp;n=21"/>
          <p:cNvPicPr/>
          <p:nvPr/>
        </p:nvPicPr>
        <p:blipFill>
          <a:blip r:embed="rId1"/>
          <a:stretch/>
        </p:blipFill>
        <p:spPr>
          <a:xfrm>
            <a:off x="0" y="549360"/>
            <a:ext cx="5580000" cy="40100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5867280" y="1268280"/>
            <a:ext cx="28083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0000"/>
                </a:solidFill>
                <a:latin typeface="Arial"/>
              </a:rPr>
              <a:t>Мы живем в небольшом, но красивом городке Кулебаки, затерявшемся среди островков знаменитых Муромских лесов, на юго-западе Нижегород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картинки мусор"/>
          <p:cNvPicPr/>
          <p:nvPr/>
        </p:nvPicPr>
        <p:blipFill>
          <a:blip r:embed="rId3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Заголовок 1" descr=""/>
          <p:cNvPicPr/>
          <p:nvPr/>
        </p:nvPicPr>
        <p:blipFill>
          <a:blip r:embed="rId1"/>
          <a:stretch/>
        </p:blipFill>
        <p:spPr>
          <a:xfrm>
            <a:off x="347760" y="96840"/>
            <a:ext cx="8667720" cy="17193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 txBox="1"/>
          <p:nvPr/>
        </p:nvSpPr>
        <p:spPr>
          <a:xfrm>
            <a:off x="457200" y="1600200"/>
            <a:ext cx="8229600" cy="23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993300"/>
                </a:solidFill>
                <a:latin typeface="Arial"/>
              </a:rPr>
              <a:t>Мы провели опрос среди родителей и учащихся нашей школы, а также сами провели наблюдения и выяснили, что самой актуальной экологической проблемой является загрязнение территории бытовым мусор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" descr="C:\Users\Привет\Desktop\кулебаки\2013-04-25 14.16.28.jpg"/>
          <p:cNvPicPr/>
          <p:nvPr/>
        </p:nvPicPr>
        <p:blipFill>
          <a:blip r:embed="rId2"/>
          <a:stretch/>
        </p:blipFill>
        <p:spPr>
          <a:xfrm>
            <a:off x="366840" y="3735360"/>
            <a:ext cx="3973320" cy="2544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C:\Users\Привет\Desktop\кулебаки\2013-04-25 14.07.47.jpg"/>
          <p:cNvPicPr/>
          <p:nvPr/>
        </p:nvPicPr>
        <p:blipFill>
          <a:blip r:embed="rId3"/>
          <a:stretch/>
        </p:blipFill>
        <p:spPr>
          <a:xfrm>
            <a:off x="4572000" y="3716280"/>
            <a:ext cx="3984480" cy="2546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картинки мусор"/>
          <p:cNvPicPr/>
          <p:nvPr/>
        </p:nvPicPr>
        <p:blipFill>
          <a:blip r:embed="rId4"/>
          <a:stretch/>
        </p:blipFill>
        <p:spPr>
          <a:xfrm>
            <a:off x="7956720" y="5734080"/>
            <a:ext cx="1187280" cy="1123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картинки мусор"/>
          <p:cNvPicPr/>
          <p:nvPr/>
        </p:nvPicPr>
        <p:blipFill>
          <a:blip r:embed="rId5"/>
          <a:stretch/>
        </p:blipFill>
        <p:spPr>
          <a:xfrm>
            <a:off x="3059280" y="3645000"/>
            <a:ext cx="2143080" cy="17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395280" y="2602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</a:rPr>
              <a:t>Улицы нашего города чистые или грязные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Object 8"/>
          <p:cNvGraphicFramePr/>
          <p:nvPr/>
        </p:nvGraphicFramePr>
        <p:xfrm>
          <a:off x="1476360" y="1197000"/>
          <a:ext cx="6095880" cy="406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97000"/>
                    <a:ext cx="6095880" cy="406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8" name="Picture 9" descr="картинки мусор"/>
          <p:cNvPicPr/>
          <p:nvPr/>
        </p:nvPicPr>
        <p:blipFill>
          <a:blip r:embed="rId3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5" descr="0008-014-Iz-okoshek-musor-ne-brosajte-territoriju-ne-zasorjajte"/>
          <p:cNvPicPr/>
          <p:nvPr/>
        </p:nvPicPr>
        <p:blipFill>
          <a:blip r:embed="rId1"/>
          <a:stretch/>
        </p:blipFill>
        <p:spPr>
          <a:xfrm>
            <a:off x="0" y="404640"/>
            <a:ext cx="4859280" cy="32403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картинки мусор"/>
          <p:cNvPicPr/>
          <p:nvPr/>
        </p:nvPicPr>
        <p:blipFill>
          <a:blip r:embed="rId2"/>
          <a:stretch/>
        </p:blipFill>
        <p:spPr>
          <a:xfrm>
            <a:off x="7000920" y="471492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9"/>
          <p:cNvSpPr/>
          <p:nvPr/>
        </p:nvSpPr>
        <p:spPr>
          <a:xfrm>
            <a:off x="0" y="4076640"/>
            <a:ext cx="730872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При строительстве многоквартирных домов были заложены площадки для мусорных баков. Поэтому он вывозился кое-как на свалку, что расположена за городо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частном секторе никогда не было мусорных контейнеров и жителям приходилось либо закапывать мусор, либо его сжигать. За многие десятилетия его накопилось так много, что не осталось около домов «свободного» для посадки растений мест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859280" y="260280"/>
            <a:ext cx="3816360" cy="27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  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В городе преобладает малоэтажная застройка, которая возводилась в конце 17 века вокруг строящегося в те времена металлургического завода братьев Баташевы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993300"/>
                </a:solidFill>
                <a:latin typeface="Arial"/>
              </a:rPr>
              <a:t>Районы «многоэтажек» находятся на северо – восто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4211640" y="260280"/>
            <a:ext cx="4753080" cy="388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При этом значительно изменился состав мусора: пластиковые пакеты, сумки, вилки, бутылки, стаканчики. Увеличился срок «разложения» такого мусора в сотни раз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Люди стали жить лучше, поэтому многие вещи перестали служить долго и мы их выбрасываем. Из-за подобных отходов на современных свалках пищевые отходы разлагаются не полностью. Поэтому они гниют с выделением ядовитой жидкост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А ведь это очень опасно для нас. Мы все пьем воду, добытую из артезианских скважин, которые находятся в черте город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5165640"/>
            <a:ext cx="1692360" cy="16923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Привет\Desktop\кулебаки\2013-04-25 14.11.07.jpg"/>
          <p:cNvPicPr/>
          <p:nvPr/>
        </p:nvPicPr>
        <p:blipFill>
          <a:blip r:embed="rId2"/>
          <a:stretch/>
        </p:blipFill>
        <p:spPr>
          <a:xfrm>
            <a:off x="179280" y="333360"/>
            <a:ext cx="3984840" cy="2735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C:\Users\Привет\Desktop\кулебаки\2013-04-25 14.11.07.jpg"/>
          <p:cNvPicPr/>
          <p:nvPr/>
        </p:nvPicPr>
        <p:blipFill>
          <a:blip r:embed="rId3"/>
          <a:stretch/>
        </p:blipFill>
        <p:spPr>
          <a:xfrm>
            <a:off x="179280" y="3429000"/>
            <a:ext cx="39848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6600"/>
                </a:solidFill>
                <a:latin typeface="Arial"/>
              </a:rPr>
              <a:t>Что сделано уже для решения данной пробле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684360" y="981000"/>
            <a:ext cx="8135640" cy="519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ще год назад наш город утопал в мусорных свалках, которые были не только около мусорных контейнеров, не убранных в срок, но и просто на дорожках в скверах и садах. У нас просто не было в городе «мусорок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ейчас их можно увидеть везде и рука уже сама не поднимается выбросить фантик на землю или бросить использованную одноразовую посуд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В городе налажена система вывоза бытового мусора. Редко увидишь переполненные контейнер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Но сознание некоторых «кулебачан» еще не готово к таким благам цивилизации. Поэтому они по-старинке выбрасывают мусор около дома соседа или по- дороге на работу, так как контейнеры стоят далеко от их дома. Это действительно так. Пара контейнеров может «обслуживать» два десятка ули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Ура, наконец- то в нашем городе появились общественные туалет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Ежегодно в городе и районе проводятся конкурсы на «самую чистую улицу» или «самый чистый подьезд», «самый зеленый балкон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картинки мусор"/>
          <p:cNvPicPr/>
          <p:nvPr/>
        </p:nvPicPr>
        <p:blipFill>
          <a:blip r:embed="rId1"/>
          <a:stretch/>
        </p:blipFill>
        <p:spPr>
          <a:xfrm>
            <a:off x="7812000" y="5445000"/>
            <a:ext cx="1332000" cy="1413000"/>
          </a:xfrm>
          <a:prstGeom prst="rect">
            <a:avLst/>
          </a:prstGeom>
          <a:ln w="0">
            <a:noFill/>
          </a:ln>
        </p:spPr>
      </p:pic>
      <p:sp>
        <p:nvSpPr>
          <p:cNvPr id="70" name="AutoShape 8"/>
          <p:cNvSpPr/>
          <p:nvPr/>
        </p:nvSpPr>
        <p:spPr>
          <a:xfrm>
            <a:off x="0" y="1844640"/>
            <a:ext cx="611280" cy="6476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0"/>
          <p:cNvSpPr/>
          <p:nvPr/>
        </p:nvSpPr>
        <p:spPr>
          <a:xfrm>
            <a:off x="0" y="2852640"/>
            <a:ext cx="68436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1"/>
          <p:cNvSpPr/>
          <p:nvPr/>
        </p:nvSpPr>
        <p:spPr>
          <a:xfrm>
            <a:off x="0" y="3789360"/>
            <a:ext cx="611280" cy="5763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12"/>
          <p:cNvSpPr/>
          <p:nvPr/>
        </p:nvSpPr>
        <p:spPr>
          <a:xfrm>
            <a:off x="0" y="5084640"/>
            <a:ext cx="611280" cy="43200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13"/>
          <p:cNvSpPr/>
          <p:nvPr/>
        </p:nvSpPr>
        <p:spPr>
          <a:xfrm>
            <a:off x="0" y="5589720"/>
            <a:ext cx="647640" cy="50328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324000" y="1125360"/>
          <a:ext cx="8569080" cy="5739120"/>
        </p:xfrm>
        <a:graphic>
          <a:graphicData uri="http://schemas.openxmlformats.org/drawingml/2006/table">
            <a:tbl>
              <a:tblPr/>
              <a:tblGrid>
                <a:gridCol w="2855880"/>
                <a:gridCol w="2857320"/>
                <a:gridCol w="2855880"/>
              </a:tblGrid>
              <a:tr h="923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ути решения проблем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еимущества данного решения проблемы (+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достатки данного решения проблемы (-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1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проводить беседы с население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Охватываются большие слои насел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Разные формы проведени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и умения в разных областях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Некоторые жители потребительски относятся к своему городу, считая недостойным убирать за соб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2 путь</a:t>
                      </a:r>
                      <a:r>
                        <a:rPr b="0" lang="ru-RU" sz="2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 - </a:t>
                      </a: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увеличить число мусорных баков в город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Мусор собирается и упаковывается для утилиз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Тратиться много средств на изготовление емкостей для сбора мусора и транспортировку 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4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3 путь - чаше устраивать суббот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За короткое время можно навести порядок на большой территории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 вместе мы –сил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Есть возможность проявить свое творчество на благо всех украшая наш гор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660033"/>
                          </a:solidFill>
                          <a:latin typeface="Arial"/>
                        </a:rPr>
                        <a:t>Всегда найдутся те, кто будет отговаривать других или искать самые легкие для себя пу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6" name="Picture 34" descr="картинки мусор"/>
          <p:cNvPicPr/>
          <p:nvPr/>
        </p:nvPicPr>
        <p:blipFill>
          <a:blip r:embed="rId1"/>
          <a:stretch/>
        </p:blipFill>
        <p:spPr>
          <a:xfrm>
            <a:off x="8028000" y="5589720"/>
            <a:ext cx="1116000" cy="126828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7"/>
          <p:cNvSpPr/>
          <p:nvPr/>
        </p:nvSpPr>
        <p:spPr>
          <a:xfrm>
            <a:off x="826920" y="260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Как же можно решить созданную рукотворно проблему мусора в нашем город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1331640" y="475920"/>
            <a:ext cx="714852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Наиболее подходящий путь решения проблемы для нас – это субботники. Им нужно уделять больше времени и проводить почаще, хотя бы в пределах своего двора или дома вместе с жильцам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33"/>
                </a:solidFill>
                <a:latin typeface="Arial"/>
              </a:rPr>
              <a:t>Также еще один наиболее оптимальный путь решения проблемы – проводить беседы, убеждать людей в важности защиты окружающей среды от загрязнений (в данном случае от мусора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"/>
          <p:cNvSpPr/>
          <p:nvPr/>
        </p:nvSpPr>
        <p:spPr>
          <a:xfrm>
            <a:off x="179280" y="47628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/>
          <p:cNvSpPr/>
          <p:nvPr/>
        </p:nvSpPr>
        <p:spPr>
          <a:xfrm>
            <a:off x="179280" y="2781360"/>
            <a:ext cx="1214640" cy="609480"/>
          </a:xfrm>
          <a:custGeom>
            <a:avLst/>
            <a:gdLst>
              <a:gd name="textAreaLeft" fmla="*/ 303480 w 1214640"/>
              <a:gd name="textAreaRight" fmla="*/ 911160 w 1214640"/>
              <a:gd name="textAreaTop" fmla="*/ 0 h 609480"/>
              <a:gd name="textAreaBottom" fmla="*/ 533520 h 60948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картинки мусор"/>
          <p:cNvPicPr/>
          <p:nvPr/>
        </p:nvPicPr>
        <p:blipFill>
          <a:blip r:embed="rId1"/>
          <a:stretch/>
        </p:blipFill>
        <p:spPr>
          <a:xfrm>
            <a:off x="7451640" y="4869000"/>
            <a:ext cx="1692360" cy="1989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картинки мусор"/>
          <p:cNvPicPr/>
          <p:nvPr/>
        </p:nvPicPr>
        <p:blipFill>
          <a:blip r:embed="rId2"/>
          <a:stretch/>
        </p:blipFill>
        <p:spPr>
          <a:xfrm>
            <a:off x="0" y="4714920"/>
            <a:ext cx="21430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5T16:50:26Z</dcterms:created>
  <dc:creator>Admin</dc:creator>
  <dc:description/>
  <dc:language>en-US</dc:language>
  <cp:lastModifiedBy>Катя</cp:lastModifiedBy>
  <dcterms:modified xsi:type="dcterms:W3CDTF">2014-11-11T12:21:59Z</dcterms:modified>
  <cp:revision>12</cp:revision>
  <dc:subject/>
  <dc:title>Экологические проблемы  г. Кулебаки</dc:title>
</cp:coreProperties>
</file>