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0CC9-6A32-48DD-9E8B-DC20F7E9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C14C-F516-41DD-8C07-429229BD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73B0-58EF-4FDF-A3E1-F1245240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6E20-19BE-4571-A4AB-F6322949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C0F9-75C3-4354-BFF5-841CDBC1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473D-DFC0-42D7-BF06-049E25DF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78D0-B194-4226-A6EB-0BF2D36D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2CC-1CF6-4FA2-A858-0F15B50C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58A3-B0BD-468D-8673-CEE70EE6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642-DF45-4CE6-A6C0-A0FF4E83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4FB9-4D83-4B44-AB91-89EA7BE4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F84D-DF92-4841-885F-AC0864A1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0E27-7F16-49DC-BBB4-CD47874107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0" y="651996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МБОУ школа 9 г. Кулеба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3" name="_s2052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3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54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55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56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57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58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59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60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1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062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3040" cy="1446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user</cp:lastModifiedBy>
  <dcterms:modified xsi:type="dcterms:W3CDTF">2017-08-21T09:05:57Z</dcterms:modified>
  <cp:revision>13</cp:revision>
  <dc:subject/>
  <dc:title>Экологические проблемы  г. Кулебаки</dc:title>
</cp:coreProperties>
</file>