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8902-6E8B-4675-AC78-0B879388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3280-E7AD-48D3-94C1-406DDBAD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8EE5B-A7CB-4D8B-BEBD-5A84B3B82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5412-6B8A-41C5-B1C0-C5A09B3B4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22E8-051F-4D88-8419-C1DBB3788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6B22-2A7D-4062-8248-8E9FA5398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CC0C-7C2B-4EC9-BAAA-DF5AD506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AB4F-5C17-4C2A-8CD1-D39D8DA74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AA52-57D4-4CB4-AE09-34AD71E2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0761-818E-4170-B159-F228762F4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549-56B0-4959-AD4A-506DAA86F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CCE9-0DEF-4785-91DA-EADBFF891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12FE3-A58B-4E32-B351-25D0B6F2FC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6"/>
          <p:cNvSpPr/>
          <p:nvPr/>
        </p:nvSpPr>
        <p:spPr>
          <a:xfrm>
            <a:off x="0" y="65199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7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3" name="_s2052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2053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2054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2055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2056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057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2058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2059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060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2061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062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3040" cy="14461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9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2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1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user</cp:lastModifiedBy>
  <dcterms:modified xsi:type="dcterms:W3CDTF">2017-08-21T09:05:57Z</dcterms:modified>
  <cp:revision>13</cp:revision>
  <dc:subject/>
  <dc:title>Экологические проблемы  г. Кулебаки</dc:title>
</cp:coreProperties>
</file>