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967C-C713-4AB1-90AA-CD972BA80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A548-D218-43EC-8BC8-94B2EF913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9086E-EFA6-4EE8-AA0F-59372E266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675C-8CCB-4BC5-A4DB-BF260B233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20C8-60C7-427F-918C-E11D30D3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3A2C1-85CE-417E-8CD1-C9EF4396F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1414-27B9-4DD2-9B09-B5CA5196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19868-29A2-497F-BE8B-67490ABA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83F47-17FB-4C5B-819E-F522E32C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6FA9-4418-4592-8009-92BC0682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0F9D-72B0-458C-9247-7D1EBB86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9654-4D64-4B32-B02C-BBF62DC4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D9640-B970-4EB4-B3F1-B9B636B555C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611280" y="6237360"/>
            <a:ext cx="777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МБОУ школа 9 г. КУлеба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user</cp:lastModifiedBy>
  <dcterms:modified xsi:type="dcterms:W3CDTF">2017-08-21T09:02:04Z</dcterms:modified>
  <cp:revision>13</cp:revision>
  <dc:subject/>
  <dc:title>Слайд 1</dc:title>
</cp:coreProperties>
</file>