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drumroll.wav" ContentType="audio/x-wav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3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applause.wav" ContentType="audio/x-wav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A98D-57BE-403E-873D-6B917DAF5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8AFD-35A2-4D72-AC73-28B0C938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EEBA-0D44-4133-B800-F94FEA2F6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266A-D02B-4525-889B-D9BFA48AD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6009-DCE9-4E54-AD1B-36A71113D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D233-8310-4156-B28F-EF61E243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FD6E0-E597-4333-A647-217B93C7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DF4F3-6BDA-45CD-8D87-1BEEA689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4FC3-AB0B-43B7-9918-0C519819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D838-3736-416F-9587-AD21E84D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6E42-29E1-46E3-9378-27FF2A8E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9CBD-E6A5-465D-9AFD-9C456C0C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9319-5CA8-4A6F-AEEF-C1B36AED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7CEB-058D-406D-88C0-B95A83AB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ABBD-1438-4440-8C98-22CB2087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97A3-82B1-4A3F-9745-A0BAF11E3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83AB-E39E-4B98-AF13-B247407F8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637DF-D1EC-43A6-A4B8-5F674705C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ACBE8-3AE0-4FC9-8FF1-BC35DC5E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B0AD2-6FE5-4756-8E40-06189523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AC3A5-400C-4C8B-A1CB-B0F6782E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13960-4206-4B39-BB14-894FAAD6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0092-8A07-4F27-9107-F19BC7FB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DA2A8-F725-4DB0-80BB-716F2245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7514F-0D03-4781-A406-CFAE15EB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34ADA-9759-4197-B9AF-F9F49240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F49CB-F938-4294-8FD3-C72F4D30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DE3B8-E888-4788-9223-FC684A84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16431-6DCE-4366-9C12-6350234BA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6C208-2C5B-4353-9BED-BEF62F541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BA789-050A-4B9F-977B-72680AF8A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2B212-C753-433B-977B-0ECF70A1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36D8E-7075-42AA-9E7F-104F62E2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27E4-D33B-437D-A146-14267834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FA62C-1E85-4C4B-AADB-B4949660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B19B1-3998-4109-BD09-F4864502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07461-78D7-4DBA-B194-76EB0DA6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46E0B-453A-48A5-A757-1DB3F183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9C6FE-E612-4386-9C67-38440F0C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7F084-FF44-46F1-9192-6AA1B9A7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F56F8-D5F7-46E3-A4C4-5E9216CF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CE8E9-5CCB-4F65-98D0-4A0FE79D4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7DA78-88ED-4337-B906-9921C759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3687-965E-4418-8178-804CDB13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F5F4-2236-45B6-9592-F0CE0431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F4B1-929B-4BE7-8E19-FB832AB0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5730-2831-4EEE-83FA-33716014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FCBB-D20E-4656-A889-D90923E0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9F91-3A3C-4842-BE9F-5BE24ED20B8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A18A-6C89-4369-8829-8F8118FE94E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A816-3B5F-4DFA-AECF-28B1743E3EC5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ACBB-85AE-49A5-97B5-943C9F09EC7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H:\Documents and Settings\Даша.8C16D62EEB58464\Рабочий стол\05[1].jpg"/>
          <p:cNvPicPr/>
          <p:nvPr/>
        </p:nvPicPr>
        <p:blipFill>
          <a:blip r:embed="rId1"/>
          <a:stretch/>
        </p:blipFill>
        <p:spPr>
          <a:xfrm>
            <a:off x="285840" y="285840"/>
            <a:ext cx="8643960" cy="6367320"/>
          </a:xfrm>
          <a:prstGeom prst="rect">
            <a:avLst/>
          </a:prstGeom>
          <a:ln w="0">
            <a:noFill/>
          </a:ln>
        </p:spPr>
      </p:pic>
      <p:pic>
        <p:nvPicPr>
          <p:cNvPr id="196" name="Заголовок 1" descr=""/>
          <p:cNvPicPr/>
          <p:nvPr/>
        </p:nvPicPr>
        <p:blipFill>
          <a:blip r:embed="rId2"/>
          <a:stretch/>
        </p:blipFill>
        <p:spPr>
          <a:xfrm>
            <a:off x="639720" y="171360"/>
            <a:ext cx="7924680" cy="2438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071360" y="492876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9aaf2"/>
                </a:solidFill>
                <a:latin typeface="Constantia"/>
              </a:rPr>
              <a:t>Батраков.Д 7 «а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randomBar dir="vert"/>
    <p:sndAc>
      <p:stSnd>
        <p:snd r:embed="rId3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1" descr=""/>
          <p:cNvPicPr/>
          <p:nvPr/>
        </p:nvPicPr>
        <p:blipFill>
          <a:blip r:embed="rId1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-360" y="571320"/>
            <a:ext cx="4143240" cy="2857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Все морские живые организмы так или иначе связаны друг с другом. В морях и океанах обитает множество разнообразных животных от простейших до млекопитающих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0" name="Picture 2" descr="http://im3-tub.yandex.net/i?id=69855835-02"/>
          <p:cNvPicPr/>
          <p:nvPr/>
        </p:nvPicPr>
        <p:blipFill>
          <a:blip r:embed="rId2"/>
          <a:stretch/>
        </p:blipFill>
        <p:spPr>
          <a:xfrm>
            <a:off x="4714920" y="0"/>
            <a:ext cx="4429080" cy="42148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http://im0-tub.yandex.net/i?id=39275352-12"/>
          <p:cNvPicPr/>
          <p:nvPr/>
        </p:nvPicPr>
        <p:blipFill>
          <a:blip r:embed="rId3"/>
          <a:stretch/>
        </p:blipFill>
        <p:spPr>
          <a:xfrm>
            <a:off x="357120" y="3143160"/>
            <a:ext cx="4286160" cy="37148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28760" y="0"/>
            <a:ext cx="6286320" cy="235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а морском дне куда не проникает солнечный свет, растения существовать не могут. Следовательно, там нет  животных, использующих растения в пищу.  Для глубоководных обитателей морского дна очень важным источником пищи служит тела мертвых животных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1" descr="H:\Documents and Settings\Даша.8C16D62EEB58464\Рабочий стол\02RWZLCAG1J1JPCA7OG2KDCA5YJIE7CACA39SGCAVLT7D4CAA5JBP6CAM408I8CA9V5641CAC6EPRPCAP7SYPCCAD22IW2CAGA7DPICA8ZTMAPCAUVX74NCA6KPSL8CAOD4T9NCAQ4WXNE.jpg"/>
          <p:cNvPicPr/>
          <p:nvPr/>
        </p:nvPicPr>
        <p:blipFill>
          <a:blip r:embed="rId2"/>
          <a:stretch/>
        </p:blipFill>
        <p:spPr>
          <a:xfrm>
            <a:off x="571680" y="1928880"/>
            <a:ext cx="7572240" cy="49291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1" descr=""/>
          <p:cNvPicPr/>
          <p:nvPr/>
        </p:nvPicPr>
        <p:blipFill>
          <a:blip r:embed="rId1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99680" y="214200"/>
            <a:ext cx="2786040" cy="3214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8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Одни морские животные могут переносить других на своем теле – так на морских черепахах и акулах путешествуют  рыбы-</a:t>
            </a:r>
            <a:r>
              <a:rPr b="1" i="1" lang="ru-RU" sz="2000" spc="-1" strike="noStrike">
                <a:solidFill>
                  <a:srgbClr val="ffffff"/>
                </a:solidFill>
                <a:latin typeface="Constantia"/>
              </a:rPr>
              <a:t>прилипалы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. У которых в процессе эволюции спиной плавник преобразовался в присоску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7" name="Picture 1" descr="H:\Documents and Settings\Даша.8C16D62EEB58464\Рабочий стол\photo[1].jpg"/>
          <p:cNvPicPr/>
          <p:nvPr/>
        </p:nvPicPr>
        <p:blipFill>
          <a:blip r:embed="rId2"/>
          <a:stretch/>
        </p:blipFill>
        <p:spPr>
          <a:xfrm>
            <a:off x="3286080" y="0"/>
            <a:ext cx="5857920" cy="29289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H:\Documents and Settings\Даша.8C16D62EEB58464\Рабочий стол\0FN3F5CAXB8HBXCAOXPBQ0CADOFFLDCATCP7XQCA2511GHCA4RZOXBCADX1ILPCA7LEI4ZCAMTQBLKCA562PZ7CA1MAHP2CA3XAR8CCAA5349WCAOJHPIKCABOOK58CAJUX8BUCABO37DW.jpg"/>
          <p:cNvPicPr/>
          <p:nvPr/>
        </p:nvPicPr>
        <p:blipFill>
          <a:blip r:embed="rId3"/>
          <a:stretch/>
        </p:blipFill>
        <p:spPr>
          <a:xfrm>
            <a:off x="3714840" y="2857680"/>
            <a:ext cx="5429160" cy="3778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H:\Documents and Settings\Даша.8C16D62EEB58464\Рабочий стол\4GKR2WCAYFEGJDCAG7EUPZCAM7IKLKCA5WGMBJCALLTMKRCA4XWYS7CAR3WVN7CAZJQJQJCAC6KVGACALIXDB6CAAU7LOFCAAIYUR2CA60361WCA7J3GKLCAS0F7CECA4FJS57CA8DGWK5.jpg"/>
          <p:cNvPicPr/>
          <p:nvPr/>
        </p:nvPicPr>
        <p:blipFill>
          <a:blip r:embed="rId4"/>
          <a:stretch/>
        </p:blipFill>
        <p:spPr>
          <a:xfrm>
            <a:off x="0" y="3214800"/>
            <a:ext cx="4643280" cy="36432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1" descr=""/>
          <p:cNvPicPr/>
          <p:nvPr/>
        </p:nvPicPr>
        <p:blipFill>
          <a:blip r:embed="rId1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500880" y="213840"/>
            <a:ext cx="2643120" cy="400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екоторые животные используют другие организмы в качестве убежищ. Рыбы-клоуны прячутся среди жгучих щупалец актинии. А рыбки- кривохвостки спасаются от врагов среди иголок морских еже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Picture 2" descr="H:\Documents and Settings\Даша.8C16D62EEB58464\Рабочий стол\pom005[1].jpg"/>
          <p:cNvPicPr/>
          <p:nvPr/>
        </p:nvPicPr>
        <p:blipFill>
          <a:blip r:embed="rId2"/>
          <a:stretch/>
        </p:blipFill>
        <p:spPr>
          <a:xfrm>
            <a:off x="0" y="0"/>
            <a:ext cx="5000760" cy="3929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H:\Documents and Settings\Даша.8C16D62EEB58464\Рабочий стол\a9[1].jpg"/>
          <p:cNvPicPr/>
          <p:nvPr/>
        </p:nvPicPr>
        <p:blipFill>
          <a:blip r:embed="rId3"/>
          <a:stretch/>
        </p:blipFill>
        <p:spPr>
          <a:xfrm>
            <a:off x="0" y="3571920"/>
            <a:ext cx="5000760" cy="3286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H:\Documents and Settings\Даша.8C16D62EEB58464\Рабочий стол\H06GQTCAZCO2XSCAY27GURCAJL21H3CAVG8I0YCAVU8Q5PCA5527D4CA999ZAACAXVAPO8CABEBI63CARA3VKSCANI2PXXCA5AEJEBCAJ5UQLZCAAX01J0CAW7CU29CAGKETL1CAGQ95FQ.jpg"/>
          <p:cNvPicPr/>
          <p:nvPr/>
        </p:nvPicPr>
        <p:blipFill>
          <a:blip r:embed="rId4"/>
          <a:stretch/>
        </p:blipFill>
        <p:spPr>
          <a:xfrm>
            <a:off x="5000760" y="3714840"/>
            <a:ext cx="4143240" cy="31431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-360" y="0"/>
            <a:ext cx="2327400" cy="685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9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Известны взаимовыгодные отношения между различными рыбами. Так, мелкие рыбки- чистильщики избавляют от кожных паразитов крупных хищных рыб. Они не  только собирают паразитов, но и  обрабатывают зубастый рот своих(пациентов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7" name="Picture 2" descr="H:\Documents and Settings\Даша.8C16D62EEB58464\Рабочий стол\0033[1].jpg"/>
          <p:cNvPicPr/>
          <p:nvPr/>
        </p:nvPicPr>
        <p:blipFill>
          <a:blip r:embed="rId2"/>
          <a:stretch/>
        </p:blipFill>
        <p:spPr>
          <a:xfrm>
            <a:off x="2857680" y="0"/>
            <a:ext cx="6286320" cy="41432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H:\Documents and Settings\Даша.8C16D62EEB58464\Рабочий стол\POQ7LSCADMVPSGCAGS0MVPCAJ2UJ8WCAR1C9VZCASNWA7ECAGN05M7CAK26S07CA5U60FGCA8EZ89ECAIWM0C4CAO8KD47CA8BLHLBCAZSS5OKCAFG5AXMCA15KAW1CAUJDCXXCA4EVSI2.jpg"/>
          <p:cNvPicPr/>
          <p:nvPr/>
        </p:nvPicPr>
        <p:blipFill>
          <a:blip r:embed="rId3"/>
          <a:stretch/>
        </p:blipFill>
        <p:spPr>
          <a:xfrm>
            <a:off x="2857680" y="3357720"/>
            <a:ext cx="6286320" cy="35002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H:\Documents and Settings\Даша.8C16D62EEB58464\Рабочий стол\70015d5e73144e2667ee58c675f10dac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0" name="Заголовок 1" descr=""/>
          <p:cNvPicPr/>
          <p:nvPr/>
        </p:nvPicPr>
        <p:blipFill>
          <a:blip r:embed="rId2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571680" y="0"/>
            <a:ext cx="782784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Уже известные нам рыбки-кривохвостки прячутся от врагов среди острых игл  морского еж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:\Documents and Settings\Даша.8C16D62EEB58464\Рабочий стол\post-32-1119025982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3" name="Заголовок 1" descr=""/>
          <p:cNvPicPr/>
          <p:nvPr/>
        </p:nvPicPr>
        <p:blipFill>
          <a:blip r:embed="rId2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0" y="142560"/>
            <a:ext cx="2470320" cy="671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Некоторые рыбы, кормясь, помогают кормится другим.  Как например рыбы-попугаи. Отламывают своими челюстями веточки коралла и глотают их. И к этому месту подплывают мелкие рыбки и достают  из обломков морских червей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randomBar dir="vert"/>
    <p:sndAc>
      <p:stSnd>
        <p:snd r:embed="rId3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4:43:22Z</dcterms:created>
  <dc:creator>Даша</dc:creator>
  <dc:description/>
  <dc:language>en-US</dc:language>
  <cp:lastModifiedBy>Жена_Мастера</cp:lastModifiedBy>
  <dcterms:modified xsi:type="dcterms:W3CDTF">2011-11-13T10:00:17Z</dcterms:modified>
  <cp:revision>9</cp:revision>
  <dc:subject/>
  <dc:title>Взаимосвязь морских животных</dc:title>
</cp:coreProperties>
</file>