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004C-FE27-49DA-BC0B-1B23F7D4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238B-16A1-443A-AF6C-B94DBA85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FF59-4AD3-4CD3-BCD6-41105912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31F5-C1CF-4A56-B032-D7714DCB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B602-5ED7-4469-A765-EB2B19D1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C2DE-B8EB-4B77-B434-2BF20361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4325-6588-4B85-B841-C7423DDD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6FA5-D3B8-43B9-B7A2-5AFBD10B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4DA2-773C-4236-BCA1-C99109E1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CB8E-A3D4-4D6F-999F-20E99341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E6EC-9C8E-42D2-A11A-0396CCF6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BF5A-A038-4BEB-B874-DE711B4D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11E8-95BB-40E1-9E6D-64A43B48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F379-95FF-4B33-8A94-A085A973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4529-C539-4329-A56B-F8EA8942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E881-4FE0-4D5A-8AB6-1EC47BF2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EAC4-4813-4BBC-B261-2DFB78D1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35F6-E08B-4F2F-A4CB-812C2D5B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4491-3792-4459-8603-17454669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5A72-FF0E-4103-B6D9-8A51464B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6DF3-0AB1-4359-9BED-0311F6C0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C2F0-B623-45B5-A0C3-141C6918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4A55-70B3-4A7C-9E03-594E424E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FB36-B62B-4157-98E2-5D5F3699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7215-8183-49DD-B843-EEEB9F93BA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4193-DF0D-415A-8CEF-7622BBCF806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Жилища  животных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038480" y="5334120"/>
            <a:ext cx="5029200" cy="14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: ученик МОУ СОШ № 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не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л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зные гнезда пти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10" descr="Все гнезда"/>
          <p:cNvPicPr/>
          <p:nvPr/>
        </p:nvPicPr>
        <p:blipFill>
          <a:blip r:embed="rId1"/>
          <a:stretch/>
        </p:blipFill>
        <p:spPr>
          <a:xfrm>
            <a:off x="914400" y="1676520"/>
            <a:ext cx="7315200" cy="48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3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реда обит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3440" y="1295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, что окружает живой орган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лище для животных, особенно для тех,которые обитают в воде или поч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сельдь"/>
          <p:cNvPicPr/>
          <p:nvPr/>
        </p:nvPicPr>
        <p:blipFill>
          <a:blip r:embed="rId1"/>
          <a:stretch/>
        </p:blipFill>
        <p:spPr>
          <a:xfrm>
            <a:off x="457200" y="39625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Горбуша"/>
          <p:cNvPicPr/>
          <p:nvPr/>
        </p:nvPicPr>
        <p:blipFill>
          <a:blip r:embed="rId2"/>
          <a:stretch/>
        </p:blipFill>
        <p:spPr>
          <a:xfrm>
            <a:off x="4495680" y="3962520"/>
            <a:ext cx="4267440" cy="2552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676520" y="2133720"/>
            <a:ext cx="5790960" cy="188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нец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68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68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Жилищ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дом, в котором тело всегда укрыто от враг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6" descr="Ручейник1"/>
          <p:cNvPicPr/>
          <p:nvPr/>
        </p:nvPicPr>
        <p:blipFill>
          <a:blip r:embed="rId1"/>
          <a:stretch/>
        </p:blipFill>
        <p:spPr>
          <a:xfrm>
            <a:off x="533520" y="3352680"/>
            <a:ext cx="3733560" cy="289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Реферат 2"/>
          <p:cNvPicPr/>
          <p:nvPr/>
        </p:nvPicPr>
        <p:blipFill>
          <a:blip r:embed="rId2"/>
          <a:stretch/>
        </p:blipFill>
        <p:spPr>
          <a:xfrm>
            <a:off x="4648320" y="3352680"/>
            <a:ext cx="396216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-5119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380880"/>
            <a:ext cx="80074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енное или постоянно посещаемое убежищ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Обезьяна"/>
          <p:cNvPicPr/>
          <p:nvPr/>
        </p:nvPicPr>
        <p:blipFill>
          <a:blip r:embed="rId1"/>
          <a:stretch/>
        </p:blipFill>
        <p:spPr>
          <a:xfrm>
            <a:off x="5181480" y="2971800"/>
            <a:ext cx="3681360" cy="342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Белка"/>
          <p:cNvPicPr/>
          <p:nvPr/>
        </p:nvPicPr>
        <p:blipFill>
          <a:blip r:embed="rId2"/>
          <a:stretch/>
        </p:blipFill>
        <p:spPr>
          <a:xfrm>
            <a:off x="457200" y="297180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Виды жилищ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п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ого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жбища,леж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незд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а обит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68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68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Дупло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щелина в дереве или скале,пещера,где может укрываться одно животное или несколь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Дупло2"/>
          <p:cNvPicPr/>
          <p:nvPr/>
        </p:nvPicPr>
        <p:blipFill>
          <a:blip r:embed="rId1"/>
          <a:stretch/>
        </p:blipFill>
        <p:spPr>
          <a:xfrm>
            <a:off x="3200400" y="3657600"/>
            <a:ext cx="2209680" cy="2743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Дупло3"/>
          <p:cNvPicPr/>
          <p:nvPr/>
        </p:nvPicPr>
        <p:blipFill>
          <a:blip r:embed="rId2"/>
          <a:stretch/>
        </p:blipFill>
        <p:spPr>
          <a:xfrm>
            <a:off x="6095880" y="3657600"/>
            <a:ext cx="2514600" cy="2743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Дуло3"/>
          <p:cNvPicPr/>
          <p:nvPr/>
        </p:nvPicPr>
        <p:blipFill>
          <a:blip r:embed="rId3"/>
          <a:stretch/>
        </p:blipFill>
        <p:spPr>
          <a:xfrm>
            <a:off x="228600" y="3657600"/>
            <a:ext cx="24382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Нор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7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может быть система нор, используемых не одним животным,а семьями.В пределах этого жилища проходит вся жизнь:укрытие от врагов,отдых,рождение,кормление и воспитание потомств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Барсук в норе"/>
          <p:cNvPicPr/>
          <p:nvPr/>
        </p:nvPicPr>
        <p:blipFill>
          <a:blip r:embed="rId1"/>
          <a:stretch/>
        </p:blipFill>
        <p:spPr>
          <a:xfrm>
            <a:off x="5029200" y="3581280"/>
            <a:ext cx="3619440" cy="2981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Лиса у норы"/>
          <p:cNvPicPr/>
          <p:nvPr/>
        </p:nvPicPr>
        <p:blipFill>
          <a:blip r:embed="rId2"/>
          <a:stretch/>
        </p:blipFill>
        <p:spPr>
          <a:xfrm>
            <a:off x="380880" y="3581280"/>
            <a:ext cx="3784680" cy="2921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Логово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положено на поверхности земли,в укромном мес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Логово волка"/>
          <p:cNvPicPr/>
          <p:nvPr/>
        </p:nvPicPr>
        <p:blipFill>
          <a:blip r:embed="rId1"/>
          <a:stretch/>
        </p:blipFill>
        <p:spPr>
          <a:xfrm>
            <a:off x="152280" y="3733920"/>
            <a:ext cx="2514600" cy="295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Берлога3"/>
          <p:cNvPicPr/>
          <p:nvPr/>
        </p:nvPicPr>
        <p:blipFill>
          <a:blip r:embed="rId2"/>
          <a:stretch/>
        </p:blipFill>
        <p:spPr>
          <a:xfrm>
            <a:off x="6324480" y="3733920"/>
            <a:ext cx="2667240" cy="297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Медведь в спячке1"/>
          <p:cNvPicPr/>
          <p:nvPr/>
        </p:nvPicPr>
        <p:blipFill>
          <a:blip r:embed="rId3"/>
          <a:stretch/>
        </p:blipFill>
        <p:spPr>
          <a:xfrm>
            <a:off x="2819520" y="3733920"/>
            <a:ext cx="3238560" cy="2981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Лежбище,лежк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7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рские ластоногие для отдыха и размножения собираются стадами на береговых или ледовых лежбищ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си,олени,зайцы отдыхают и укрываются на леж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Лежбише моржей"/>
          <p:cNvPicPr/>
          <p:nvPr/>
        </p:nvPicPr>
        <p:blipFill>
          <a:blip r:embed="rId1"/>
          <a:stretch/>
        </p:blipFill>
        <p:spPr>
          <a:xfrm>
            <a:off x="380880" y="3733920"/>
            <a:ext cx="3810240" cy="2724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Заяц в лежке"/>
          <p:cNvPicPr/>
          <p:nvPr/>
        </p:nvPicPr>
        <p:blipFill>
          <a:blip r:embed="rId2"/>
          <a:stretch/>
        </p:blipFill>
        <p:spPr>
          <a:xfrm>
            <a:off x="4648320" y="3657600"/>
            <a:ext cx="4209840" cy="2838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незд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8007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мелких птиц гнездо имеет временный характер-предназначено только для выведения потомства. Крупные хищники используют  свои гнезда в течение нескольких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незда птиц чрезвычайно  разнообраз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гнездо птицы"/>
          <p:cNvPicPr/>
          <p:nvPr/>
        </p:nvPicPr>
        <p:blipFill>
          <a:blip r:embed="rId1"/>
          <a:stretch/>
        </p:blipFill>
        <p:spPr>
          <a:xfrm>
            <a:off x="609480" y="3962520"/>
            <a:ext cx="3581640" cy="2743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Гнездо2"/>
          <p:cNvPicPr/>
          <p:nvPr/>
        </p:nvPicPr>
        <p:blipFill>
          <a:blip r:embed="rId2"/>
          <a:stretch/>
        </p:blipFill>
        <p:spPr>
          <a:xfrm>
            <a:off x="4648320" y="3962520"/>
            <a:ext cx="3581280" cy="2728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а_Мастера</cp:lastModifiedBy>
  <dcterms:modified xsi:type="dcterms:W3CDTF">2011-11-13T09:56:2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