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EF2-7720-48A9-AAC0-DA6CE418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5F2-01BB-4EB2-A46D-130F3A78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FC0-782F-4FDE-AA28-7FD1C70A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365-1F27-413E-8796-C97925EB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2780-21D5-415B-8D9D-9270C9ED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B1B8-C8DB-4E6F-9737-D1965A69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BA1-484E-4E3F-8127-45B94526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30CB-3C28-4037-A161-65FBEA4E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9631-10D1-4D9F-A1D7-C524B090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2380-7251-430A-AFB7-21E86F8E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BCE9-7D4E-497D-9715-063D2CCE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3E8-7C80-4CBC-8FA6-8D20CB4C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57DE-19F4-4296-A0E5-B5E6446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4ABB-7E43-447A-ACF5-EAF49AC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06D3-D67C-4FB8-910A-662AF0DD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B5CD-B3CF-4A87-9C2F-5111D391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189E-1290-4366-99A1-719331A6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3DC-D61C-4AC5-9FDA-28B40E53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C90-5291-449A-B33B-47D077B9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0DA-B99B-474E-86EC-D6D9A212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379-A450-49A5-A708-24C5BB5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BFC-A648-4EA1-B9B7-B197F922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CCF-FF55-491C-96F1-E7D5422A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1C9-B92A-4AAB-BDD7-2CAEB66C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305E-0C2F-451E-839E-4715363BD5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44ED-F1FC-4FFE-A021-DAC2454D6E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лияние температуры среды обитания на жизнь животны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48320" y="54100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ученик 8 класс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лоднокровные животные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не имеют постоянной температуры тела)</a:t>
            </a:r>
            <a:br>
              <a:rPr sz="16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пособы реагирования на температуру среды и соответственно регулирования своей температуры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еться на солнце, чтобы оно освещало и нагревало как можно большую поверхность тела. Этим способом пользуется-кузнечики, саранч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смыкаюшиес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Кузнечик2"/>
          <p:cNvPicPr/>
          <p:nvPr/>
        </p:nvPicPr>
        <p:blipFill>
          <a:blip r:embed="rId1"/>
          <a:stretch/>
        </p:blipFill>
        <p:spPr>
          <a:xfrm>
            <a:off x="457200" y="17524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рулоголов"/>
          <p:cNvPicPr/>
          <p:nvPr/>
        </p:nvPicPr>
        <p:blipFill>
          <a:blip r:embed="rId2"/>
          <a:stretch/>
        </p:blipFill>
        <p:spPr>
          <a:xfrm>
            <a:off x="5334120" y="4314960"/>
            <a:ext cx="291456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ящерица1"/>
          <p:cNvPicPr/>
          <p:nvPr/>
        </p:nvPicPr>
        <p:blipFill>
          <a:blip r:embed="rId3"/>
          <a:stretch/>
        </p:blipFill>
        <p:spPr>
          <a:xfrm>
            <a:off x="457200" y="4343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 те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темная окраска способствует поглощению внешнего тепла, а по мере усиления солнечного тепла она бледнеет. Это  используют пустынные игуаны. Черепахи выставляют из -под панциря свои темные лапы, улавливая теп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5" descr="игуана2"/>
          <p:cNvPicPr/>
          <p:nvPr/>
        </p:nvPicPr>
        <p:blipFill>
          <a:blip r:embed="rId1"/>
          <a:stretch/>
        </p:blipFill>
        <p:spPr>
          <a:xfrm>
            <a:off x="4724280" y="32767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черепаха1"/>
          <p:cNvPicPr/>
          <p:nvPr/>
        </p:nvPicPr>
        <p:blipFill>
          <a:blip r:embed="rId2"/>
          <a:stretch/>
        </p:blipFill>
        <p:spPr>
          <a:xfrm>
            <a:off x="533520" y="34290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е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шечная работа способствует разогреванию тела. При  понижении температуры увеличивается двигательная актив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Мокрица1"/>
          <p:cNvPicPr/>
          <p:nvPr/>
        </p:nvPicPr>
        <p:blipFill>
          <a:blip r:embed="rId1"/>
          <a:stretch/>
        </p:blipFill>
        <p:spPr>
          <a:xfrm>
            <a:off x="4800600" y="3505320"/>
            <a:ext cx="404820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абочка бражница1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цепенение (реакция  на изменения температуры среды  водных  животных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аси закапываются            Осетры лежат неподвиж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л, температура их тела          близ дна, их тело покры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скается.                                  вается толстым сло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изи,которая изолиру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изких темпера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карась2"/>
          <p:cNvPicPr/>
          <p:nvPr/>
        </p:nvPicPr>
        <p:blipFill>
          <a:blip r:embed="rId1"/>
          <a:stretch/>
        </p:blipFill>
        <p:spPr>
          <a:xfrm>
            <a:off x="533520" y="1219320"/>
            <a:ext cx="35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сетра"/>
          <p:cNvPicPr/>
          <p:nvPr/>
        </p:nvPicPr>
        <p:blipFill>
          <a:blip r:embed="rId2"/>
          <a:stretch/>
        </p:blipFill>
        <p:spPr>
          <a:xfrm>
            <a:off x="4648320" y="1219320"/>
            <a:ext cx="373356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плокровные животные</a:t>
            </a:r>
            <a:br>
              <a:rPr sz="40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имеют постоянную температуру тела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ы приспособления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рганизма к изменениям  температуры среды обит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стота волосяного покрова или перьевого пок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ичие подкожного ж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та дыхательных дви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7680" y="-669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нь теплый покров имеют: овцебык,северный олень,  белый медведь,  королевский пингв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0600" y="533160"/>
            <a:ext cx="40384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риближении зимы количество пуховых перьев на теле чижа увеличивается примерно на одну тысяч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чиж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ингвин королевский"/>
          <p:cNvPicPr/>
          <p:nvPr/>
        </p:nvPicPr>
        <p:blipFill>
          <a:blip r:embed="rId2"/>
          <a:stretch/>
        </p:blipFill>
        <p:spPr>
          <a:xfrm>
            <a:off x="152280" y="3581280"/>
            <a:ext cx="28958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Северный олень"/>
          <p:cNvPicPr/>
          <p:nvPr/>
        </p:nvPicPr>
        <p:blipFill>
          <a:blip r:embed="rId3"/>
          <a:stretch/>
        </p:blipFill>
        <p:spPr>
          <a:xfrm>
            <a:off x="3276720" y="3581280"/>
            <a:ext cx="250488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белый медведь"/>
          <p:cNvPicPr/>
          <p:nvPr/>
        </p:nvPicPr>
        <p:blipFill>
          <a:blip r:embed="rId4"/>
          <a:stretch/>
        </p:blipFill>
        <p:spPr>
          <a:xfrm>
            <a:off x="6248520" y="35812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ведение животных при температурных изменения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3152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езонном понижении температуры теплокровные животные впадают в спяч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Медведь в спячке1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ветреную погоду  пингвины сбиваются в плотные группы и внутри их укрывают детенышей. Такой способ поведения позволяет удерживать  внутри группы более высокий уровень температуры и спасать себя и свое потомство от ледяного в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penguins_03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4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