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4B7-4281-4D28-A972-2D7BDF9A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911-7A0D-4735-9748-9B2BAF99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9F9-DD6F-46C5-AB71-AABCF61D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39B-70DB-4AF2-B8CC-4D81AD96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25DD-C15F-4D23-BB0B-6371DBDD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B3F9-D375-473C-8E2D-E078B4D8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3843-AA90-4DC7-BA7F-E79FD408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887A-97A0-49DE-A8A4-EB6484AE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AFCC-B5C8-45D0-A1CA-A5CDD762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EB08-1600-4F28-8CD6-97A4FC7B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0E63-C881-41F6-992D-1A68BD41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E59-7E1E-4582-96F7-0C306FB3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07A1-F330-400B-8DB2-F50C900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AA93-1216-4788-9290-BEA33A8F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DFEF-A6C0-443C-8017-BDB7A9DA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07DA-12A1-46F1-AC5B-0A123662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107B-2DD7-432C-8453-68B475E0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CDF70-1B1E-4FF8-A5B7-E3EE7872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E72DA-3098-40FB-AD3E-01C3CE8D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C71C6-B582-4E7F-82C2-A02A25DA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1C293-6C1F-4BA8-9C8E-DAE52FD7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D7AB9-FAE8-47CD-8531-A243A901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23E-B760-419C-91DB-3F00AE28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56150-1E35-48F6-9469-386D8757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94A6B-7478-43DD-83B1-8B935260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08B1B-C306-42B8-B615-13D64359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39BAC-251C-425E-B84F-979A9E59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485D5-57DA-4572-A832-0D315BB9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98BD3-A7A3-40F2-8F63-27A33BD3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29E27-BD77-4BB1-B138-9845E2AD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6ADF2-9399-435A-927B-E3431AB5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1EEB7-4EA6-4523-8F2A-31561BD4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80846-010D-44FA-AFEC-85D5ECC6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3C7-ECAD-4E34-81CA-CD8E5728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E57F-DF2E-40F5-B072-8E5656B8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490E0-784D-42D8-B5D7-0EC2D2FF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BB4E7-3543-42A1-AB11-E8879D72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B2940-E77C-4D5A-B580-BF098075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02E4-CF34-47D1-BD02-91BB6F10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F3E3-5637-4A1E-8130-78DA9587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FCADE-9931-4E83-9FF2-7003E304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9BF7E-516D-4FEC-9DC0-356B2045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8AB9F-C220-45BD-A8FA-812AF12E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530D6-0E98-4CD3-83C8-DBCBFCD3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360-8D1C-4F6C-91B8-54B31958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210E0-8A36-49B4-9242-975D3249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84062-5750-4A6D-97D7-6BD951B4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A9706-1DFF-45B7-A40C-0B1CB8D9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9E7E4-F3DF-469B-B3C3-B49E90C3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771A6-9896-4878-8C3D-102AF63E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6F01A-442B-469F-B5AB-10E67CC7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732DE-DFD3-42E3-85CB-7242D622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1F54B-216F-4CDD-ACA9-5B0AE79C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5635E-0407-44BE-8081-86C39080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B27ED3-7CDB-4638-A1CA-C050C012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60A-5284-4952-9F8D-AAFFFA26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80F75-8997-414F-ABDE-2F3FF404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1A7E8-42B6-44C6-95A1-51346F4A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9D5FC-9D1F-46DC-BBC5-C1CD1DBB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7DDF7-76A4-4DB6-8447-BAF9B72F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B68B2-26EC-4EAC-BFEC-936E827B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5AEBD-E335-44AE-A346-CEA757D4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B3C28-1BF5-4B4D-BFBA-762C62F4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0BBB8-6CB7-48C3-81F9-1C454E46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ADE3A-F6A5-4543-8761-D8E115A3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DEB477-B451-49E4-BB67-1357DD0D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6D5-D11D-47AA-BFD6-D82BD541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0F20A-DF02-4AA7-A58D-B9C8265B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7231F-DA2D-4530-9943-D974E4EC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57B103-9453-4E48-948C-0F69B06C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F96BA-A390-442E-A112-C87BFF16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B6ACA-43C3-4580-A70A-7AAC14B0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63F37-794B-455E-B5AB-67D236AA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0A696-BB1A-48A4-A1CE-FF2AF46C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0BCCA8-A876-4149-BF39-B766DA54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CE1BD-3908-4BC8-A31C-08C8FE4D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B5335-58DD-4EDF-8D61-82FFF16B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A79-8A74-484D-B424-D773547D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167F1-D05A-41D9-8128-CA0A3084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3A095-5CB9-427F-9FDF-C6B72017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5E909-97E9-4160-955F-12A2B5A8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5FE8FE-7353-467F-88BE-AAE3F600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D438C-6138-49E3-B15E-802152B4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F3DF0-860C-4C93-B29F-25E36E58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A4E23-49B4-4CA2-AF8F-CC4B6143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11DEE-F300-4047-BC7D-101BD313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557A8-758B-45FD-8140-BA581D0A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10610-F6BC-44A0-AAD5-E9C8C88A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9A8-F1F4-4C65-A234-A563EB25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65DFC-0FDC-4EC1-AA90-2037F21E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EB522-C83C-4693-832F-7236CB21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5BD94-9F4A-4431-ADE0-7EEECFB8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9F2B5-A134-4A8A-8B0E-D1E8F70D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89854-8F34-4626-8815-0611D367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F1326-C24F-4FFF-814A-A30F77FE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55C28-0869-4D0C-A24D-ADEA1DDC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72C0-51CF-4248-95A1-963103C998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D283-45D6-4A68-930C-2174D3B9BC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9868-62A0-4D8A-A40F-3CB707748D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E0B5-CBA6-4323-8ABA-EFF8F536D9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86E2-8542-4A49-964E-91AEDEBB3D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A556-80AD-41A8-A074-F270857CFE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8A46-11D7-4372-BFAE-3B6206EBC3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D711-BEC9-46CE-807C-2F5952B4FC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lanurokal@mail.ru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lanurokas@mail.ru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lanurokap@mail.r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lanurokaa@mail.ru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КАФЕДРА НАЧА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 ГБОУ ДПО 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«НИЖЕГОРОДСКИЙ ИНСТИТУТ РАЗВИТИЯ ОБРАЗОВАНИЯ»</a:t>
            </a:r>
            <a:br>
              <a:rPr sz="29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979640" y="544500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Требования к оформлению зачетной работ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Квалификационные курсы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НИРО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Arial"/>
              </a:rPr>
              <a:t>2017 -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ПРОЕКТ УРОКА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СТРУКТУ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едмет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 урока 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п урока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урока__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жидаемые результаты (предметные; метапредметные: познавательные, коммуникативные, регулятивные; лично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ходный уровень знаний и умен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изучения данной т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апы урока и хрономе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урока (в таблиц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нализ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енный бланк ( в том числе и в электронном виде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ие треб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ся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пол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точно в соответствии с рекомендациями авторов УМК, данными в рабочей программе и методических рекомендациях по предме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ЗАДАЧИ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нкретных дидакт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полно и точно, так, чтобы можно было отследить их реализацию в ходе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ставятся только т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, над которыми реально ведется рабо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 данном уроке и их реализацию возможно отследить в ходе уро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333360"/>
            <a:ext cx="746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уются комплексные задачи, связанные с формированием различных компонентов учебной деятельности и УУД, а дидактические задачи включаются в  них как составная ча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пример,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познавательных логических УУД анализа и обобщения на основе самостоятельного открытия учащимися нового вычислительного приема сложения с переходом через десят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регулятивного УУД итогового самоконтроля на основе соотнесения составленного текста и его модел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НЕ допускаетс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задач урока в общей форме, например, «Развивать мышление учащихся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ОБОРУДОВ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лядные пособ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оры, инстру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пособия (карточки, средства обратной связи и др.) прилагаются к конспекту и описывают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ьютерная презентация (если есть в ней необходимость), прикладывается к проекту и др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ЛАН И ХРОНОМЕТРАЖ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ый план, отраж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ую и методическую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раткое содержание каждого эта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ся время на каждый этап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42920" y="4005360"/>
          <a:ext cx="7705800" cy="1981080"/>
        </p:xfrm>
        <a:graphic>
          <a:graphicData uri="http://schemas.openxmlformats.org/drawingml/2006/table">
            <a:tbl>
              <a:tblPr/>
              <a:tblGrid>
                <a:gridCol w="941400"/>
                <a:gridCol w="431640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ронометр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План урока с хронометраж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ткрытие способа вычисления площади прямоугольника с применением палет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знакомление с новым вычислительным приемом вида 9+5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Самостоятельная работа учащихся по выявлению свойств и состояний вод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ХОД УРО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981000"/>
          <a:ext cx="8785080" cy="5515200"/>
        </p:xfrm>
        <a:graphic>
          <a:graphicData uri="http://schemas.openxmlformats.org/drawingml/2006/table">
            <a:tbl>
              <a:tblPr/>
              <a:tblGrid>
                <a:gridCol w="1425600"/>
                <a:gridCol w="2174760"/>
                <a:gridCol w="2149560"/>
                <a:gridCol w="3035160"/>
              </a:tblGrid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оретическое основание: формируемые УУД (группа УУД  и название конкретного УУД) , средства их формирования (формы, методы, приемы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ОДЕРЖ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ход, всё содержание (скан.задания учебника, тетради) и организацию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 слова учителя и образцы рассуждений уче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боты и способы организации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ена дифференциация и индивидуализация обучения  младших школьников (указаны упражнения, виды помощи для отдельных учени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ОРЕТИЧЕСКОЕ ОБОСН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процесс формирования УУД на каждом этапе данного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а построения суж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что формируется (ук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группа и конкретное уу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з этой групп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 помощью чего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к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онкрет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ие и/или методически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ства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ОУ ДП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егородский институт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федра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сро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6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урока по теме: «     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У № _____ _______________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О 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ж работы учителем начальных классов___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Новг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WordArt 3"/>
          <p:cNvSpPr txBox="1"/>
          <p:nvPr/>
        </p:nvSpPr>
        <p:spPr>
          <a:xfrm rot="5400000">
            <a:off x="-2737080" y="3321000"/>
            <a:ext cx="633744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тульный лис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АМОАНАЛИЗ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одится в соответствии со схемой анализа (бланк №1 и №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 - соответствует требованиям ФГО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- частично соответству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–не соответствует (отражает требования к традиционному урок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этим критериям оценивает работу и преподаватель кафед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76640" y="119664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ПРОЕКТА УРОКА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НК №1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4400" y="25560"/>
          <a:ext cx="7510320" cy="7500600"/>
        </p:xfrm>
        <a:graphic>
          <a:graphicData uri="http://schemas.openxmlformats.org/drawingml/2006/table">
            <a:tbl>
              <a:tblPr/>
              <a:tblGrid>
                <a:gridCol w="450720"/>
                <a:gridCol w="6122880"/>
                <a:gridCol w="368280"/>
                <a:gridCol w="568440"/>
              </a:tblGrid>
              <a:tr h="420480"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араметр оце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ложность  содержания, его соответствие возможностям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еализация компетент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ворческий или репродуктивный характер учебных заданий, их целесообразность и обоснова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ивающая направленность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Логика построения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ы учебной  работы, их разнообразие и оптимальность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етоды обучения и методические приемы, целесообразность их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арактер используемой нагля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Целесообразность и функциональность используемых средств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уществление дифференцированного подхода к учащимся, учет их индивидуальных особе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мотивационного компонента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становка учебных задач. Организация целеполаг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познаватель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регуля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коммуника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2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сего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2"/>
          <p:cNvSpPr/>
          <p:nvPr/>
        </p:nvSpPr>
        <p:spPr>
          <a:xfrm>
            <a:off x="7524720" y="2175480"/>
            <a:ext cx="1619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сум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баллов (разработанный урок полностью соответствует ФГОС), минималь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баллов (урок является традиционны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96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ОТВЕТСТВИЯ СТРУКТУРНЫХ ЧАСТЕЙ ПРОЕКТА УРОКА                                                         БЛАНК №2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0920" y="620640"/>
          <a:ext cx="8640720" cy="4803840"/>
        </p:xfrm>
        <a:graphic>
          <a:graphicData uri="http://schemas.openxmlformats.org/drawingml/2006/table">
            <a:tbl>
              <a:tblPr/>
              <a:tblGrid>
                <a:gridCol w="1185840"/>
                <a:gridCol w="4678200"/>
                <a:gridCol w="1387440"/>
                <a:gridCol w="1389240"/>
              </a:tblGrid>
              <a:tr h="3081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труктурные части проекта и параметры их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Наличие общих сведений о проекте и соблюдение правил оформления зачет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пределение исходного уровня сформированности ЗУ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равильность формулировки темы и задач урока, наличие сведений об оборудован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облюдение требований к план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Качество теоретического об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декватность самоанализа урока (объективность выставления учителем баллов за свой консп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</a:tbl>
          </a:graphicData>
        </a:graphic>
      </p:graphicFrame>
      <p:sp>
        <p:nvSpPr>
          <p:cNvPr id="446" name="Rectangle 1"/>
          <p:cNvSpPr/>
          <p:nvPr/>
        </p:nvSpPr>
        <p:spPr>
          <a:xfrm>
            <a:off x="250920" y="5479920"/>
            <a:ext cx="853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ивания используется следующая шкала: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требованиям,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чно соответствует, 1 - минимально соответствует, 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остью не соответствует. Максимальная сумм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баллов, мини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бал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ценка проекта урока и структурных частей проекта урока в сумме может составить 63 балла максим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зачетной работы преподавателем НИР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31 бал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чтено с замеч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- 63  -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ЕХНИЧЕСКИЕ ТРЕБ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ыполняется на листах формата Ф-4, вложенных в пап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мер шрифта 14, межстрочный интервал 1,5; все поля 2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ы пронумерованы, на титульном листе номер не ста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е дополнительную литературу (источники) , которые были использованы при подготовке проекта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ТЕРАТУРА  (В ПОМОЩЬ УЧИТЕЛЮ):</a:t>
            </a:r>
            <a:br>
              <a:rPr sz="1400"/>
            </a:b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СОВРЕМЕННЫЕ ТЕХНОЛОГИИ ПРОВЕДЕНИЯ УРОКА В НАЧАЛЬНОЙ ШКОЛЕ С УЧЕТОМ ТРЕБОВАНИЙ ФГОС» ПОД РЕД. ДЕМЕНЕВОЙ Н. Н., ИЗДАТЕЛЬСТВО «АРКТИ», 2014 Г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пособии раскрываются особенности построения современного урока в начальной школе с учетом требования Федерального государственного стандарта. Сопоставлены характеристики традиционного урока, не соответствующего стандарту, и развивающего урока, соответствующего ФГОС НОО. Приводятся примеры из вариативных учебников для начальной школы по различным учебным предме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собие адресовано учителям начальных классов, директорам и завучам общеобразовательных учреждений, студентам педагогических вузов и колледж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5" descr="image007"/>
          <p:cNvPicPr/>
          <p:nvPr/>
        </p:nvPicPr>
        <p:blipFill>
          <a:blip r:embed="rId1"/>
          <a:stretch/>
        </p:blipFill>
        <p:spPr>
          <a:xfrm>
            <a:off x="395280" y="1268280"/>
            <a:ext cx="330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ЛЕНИН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l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Ленин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 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СОРМОВСКИЙ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s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рмов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ПРИОК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p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Приок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АВТОЗАВОД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a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завод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901080" cy="6915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291636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рмовског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995640" y="19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р оформ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260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643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В ПРИКРЕПЛЕННОМ  К ПИСЬМУ ФАЙЛ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2060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уро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Бланки самоанали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Дополнительный материал: презентация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сканкопии страниц учебника; тетради и т.д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ПРЕДМЕ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9:00:30Z</dcterms:created>
  <dc:creator>Александр</dc:creator>
  <dc:description/>
  <dc:language>en-US</dc:language>
  <cp:lastModifiedBy>*</cp:lastModifiedBy>
  <dcterms:modified xsi:type="dcterms:W3CDTF">2018-05-29T08:12:19Z</dcterms:modified>
  <cp:revision>147</cp:revision>
  <dc:subject/>
  <dc:title>Требования к итоговой работе</dc:title>
</cp:coreProperties>
</file>