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B26-E0B6-4593-8B10-B55A187A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D50C-1099-4628-9C86-083062C9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C1BA-F4D0-4203-A148-E22A28BB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50E-C2A2-4BCC-90B2-D30FEC91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166D-19BF-4D4E-B5B8-784550EE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AD6-8EA3-4F99-BC65-8D2CFA61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D322-4E44-4B66-9427-59F95A57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59FC-74B4-45C7-B2CC-ECF54D0B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5374-0B0B-4856-810C-58DE3026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9A3-D106-4ED0-8242-FFE634FA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425B-FF13-456E-9C16-DFAF7EC2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329-159E-4222-ABD2-C7FA8EAA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8F34-CCD1-46A1-8791-08E8C9DF5B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октябрь 20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Щелкунова Н.А.</cp:lastModifiedBy>
  <dcterms:modified xsi:type="dcterms:W3CDTF">2011-10-24T08:08:27Z</dcterms:modified>
  <cp:revision>12</cp:revision>
  <dc:subject/>
  <dc:title>Слайд 1</dc:title>
</cp:coreProperties>
</file>