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D47-2D49-4052-8175-CD5E1456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81E-2C5B-4112-9DD8-96FCCF77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11B-47D9-4607-9DE1-82D74A8F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6A3-A181-44FF-8304-CA3A4448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0CD3-5C63-41FD-95A9-67288FB2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B2C2-1ACE-496F-A617-61598430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5154-2417-45C8-9B88-2C080F28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EE37-574A-4FB4-B33F-B5268F78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31D4-FB30-42C1-8451-C6364811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E057-14AE-4A9F-8EA1-92696FD5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4843-EFAC-4FCF-B615-204AFCF3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A5A-73F3-4BF7-B044-2A3CE5EB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3B5F-93CE-4B94-8614-0B122BB8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4572-8B9B-4BA9-8D2C-F7D3028B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A5DB-A217-4219-BFC1-A96E7B0B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56E6-1EE0-432B-A45B-43D6E379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F95A-B1FC-47C8-8702-3A3AFB1F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8138-939C-41DC-BAF4-D545C6E7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166F1-AE53-4B78-BCC4-AEDECF77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6530-D14C-4BF2-8213-33FA0DEE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3711-9DC6-4FD4-A2B4-34ADC106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2228-8057-43C1-8F42-E84A313B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299-CE1F-4325-B13B-B7C10C3E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812D-3BA0-4E47-9249-408C636A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169C-C204-4A0F-A92F-CF26B65A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B758-4F6C-4A62-8423-16FCC4D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F4B9-7588-4EC4-ABAA-78AD2633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4470-B3F8-4270-AECD-C4ECD4CB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6D3D-29AD-426F-990A-2D7448AA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57CEA-9903-47D1-9129-C8E5057D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CD2B3-07E0-45D3-9BE0-735EA263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459E4-939A-4AD4-B954-FDF2ECCA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8F9B2-C681-40BC-BA4F-2F961F04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32D-1B8E-4724-9B36-31E72A8C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D8967-8230-45C4-A897-7CEAAA58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73867-A773-4FDA-811B-38F90064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D045-D389-4146-B15A-82875FFF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E917-6331-41A9-84A4-D9AC3104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8209-F697-4A2B-85CB-74546ED9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207DB-7803-4BB9-BE6A-239BB72B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B2A95-94AF-461B-8151-297F64FA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E8B0-98E5-4243-A03D-1056C51A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D8EF0-FC8F-4D4B-A7DA-1F581880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3E842-7D79-4C54-86B9-08354532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0DC-0ED3-45A1-8951-FD017723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91CC7-F5EE-4A23-948D-C3ADF1D9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BD83F-55C4-4A91-BB72-A2BC7D32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6694D-D161-485B-8EEF-2569F1C1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8FC68-CB27-4485-A931-46CAD7D3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D5420-D3A3-4CE9-9D87-EA4132AF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04363-6AA5-4E3B-8564-4B64B64E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BEF3B-86D2-46C4-8670-1ED84912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B19AF-F2DB-47AA-BB5D-B2B54C55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FA4F2-5218-485A-AC3A-E0158681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1B37A-AE71-41A4-9863-4E131610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A43-3DE7-4754-A42D-524072A9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E035A-7896-4B73-B9EC-B0A1610B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E9694-9E55-4DCD-8B2F-EE3949A2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02114-C7EE-4C8C-9716-574E1011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4B065-A831-4710-BE92-9F218B8D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EDF60-12E5-4EE9-A5B5-84764A75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BEB0-21C5-4A48-AEBD-BD2154B6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5F405-C8DE-468B-8BA5-378F298E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95991-1C7E-45EB-AD5A-F259C460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894B2-C438-43DD-8233-D85B273E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A745D-8086-41B5-AF62-EF117FF1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55F-3AF9-4181-9A94-AF05C9B7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64248-0AA0-4D14-A955-F4FA7E3F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5982-3956-4B24-8534-031A94DC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1A646-BCD1-4322-B078-0C209DAA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36905-1125-4339-B818-B5060366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78100-6D3A-4589-A848-44D32826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BD2F8-003A-4A2E-BBBD-8F623470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C4C4D-DDEB-4DE9-8755-FD9F97BE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315F1-16B8-4DF3-9695-EDBD2817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84340-4A7A-46AD-B3B7-45D1173F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207B7-49EC-48E5-B61D-7B93E83E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1CC-AE5A-4B5E-BBE0-AFB7407A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D7A96-4340-4E57-9E7C-36F27C05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F6656-4705-4031-83A8-FE066FA4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AD708-B830-4FBA-B889-5A8A9A8D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3E352-4F75-4E16-BCBD-31025193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A0B90-3519-4CB3-A0CB-25FC9507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2F2-265A-4BFF-9673-C7B79B55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D453-CB92-428F-9828-23C3306FFE1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7463-1E47-4984-8C72-00FA7346A52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8A0D-80BA-4096-9389-C096911C197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EE7C-B1E1-4209-A18B-73702645866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2360-6117-4765-BF97-A1F6DA224E5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D7E4-8AD2-46E5-B4F8-187F74A75B0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5416-DAEB-45AC-84A1-EDBB3565E94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Коневская основная общеобразовательная школа»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Преодоление разрыва в образовательных возможностях и достижениях обучающихся, обусловленных социально-экономическими характеристиками их семей, сложностью контингента и их переход в статус резильентных за счёт повышения педагогического и ресурсного потенциала школ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orbel"/>
              </a:rPr>
              <a:t>2020 -2021 уч. год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C:\Users\Инна\AppData\Local\Microsoft\Windows\Temporary Internet Files\Content.IE5\5WAUPLBX\81266624ef02[1].png"/>
          <p:cNvPicPr/>
          <p:nvPr/>
        </p:nvPicPr>
        <p:blipFill>
          <a:blip r:embed="rId1"/>
          <a:stretch/>
        </p:blipFill>
        <p:spPr>
          <a:xfrm>
            <a:off x="1830240" y="3860640"/>
            <a:ext cx="24544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11617"/>
                </a:solidFill>
                <a:latin typeface="Corbel"/>
              </a:rPr>
              <a:t>Описание ситуации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МБОУ «Коневская ООШ» расположена в Балахнинском районе Нижегородской области в деревне Конево. В школе 60 обучающихся 1-9 классов, 12 учителей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Одной из ключевых проблем  школы являлась недостаточная предметная и методическая компетентность педагогических работников. 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Не все педагоги в полной мере усвоили приемы работы с мультимедиа и другой современной аппаратурой, проведение онлайн-уроков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Основная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ка и реализация комплекса мер по снижению уровня значимости рисков снижения результатов обучения для перехода школы в статус резильентны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e190d"/>
                </a:solidFill>
                <a:latin typeface="Times New Roman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7489800" cy="129564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Основная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задача: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677600" y="907560"/>
            <a:ext cx="707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аботка и реализация программы методической работы с педагогами, имеющими предметные и методические дефициты компетентност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 проведение консультирования педагогов с низкими предметными и методическими компетентност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рганизация прохождения курсов повышения квалификации и в соответствии с выявленными профессиональными дефицита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разработка и реализация индивидуальных планов профессионального развития педагогов по ликвидации профессиональных дефицит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готовка и организация мероприятий по обмену опытом между педагогами школ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Описание результат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Инструментарий диагности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роведение мониторинга профессиональных компетентностей педагогов. Разработка инструментария и проведение диагностики профессиональных компетентностей педагогов: диагностика проведена на сайте Я Учитель 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(«Профиль компетенций»)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с указанием результатов компетенций учителей, через определенный период  времени проведена повторная диагностика (результаты указаны в диаграмме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Диаграмма 4" descr=""/>
          <p:cNvPicPr/>
          <p:nvPr/>
        </p:nvPicPr>
        <p:blipFill>
          <a:blip r:embed="rId1"/>
          <a:stretch/>
        </p:blipFill>
        <p:spPr>
          <a:xfrm>
            <a:off x="2289240" y="3017880"/>
            <a:ext cx="55735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972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     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ана программа методической работы с педагогами, имеющими предметные и методические дефициты компетентностей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Содержательный план проведения консультаций педагогов с низкими предметными и методическими компетентностями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График прохождения курсов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дивидуальны планы профессионального развития педагогов по ликвидации профессиональных дефицит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Банк методических материалов педагогов, мультимедийные презентации  с описанием опыта педагог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формационная справка с выводами о динамике уровня развития предметных и методических компетентностей педагог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5" descr="C:\Users\A4F7~1\AppData\Local\Temp\Rar$DIa2644.22603\1624528579928.jpg"/>
          <p:cNvPicPr/>
          <p:nvPr/>
        </p:nvPicPr>
        <p:blipFill>
          <a:blip r:embed="rId1"/>
          <a:stretch/>
        </p:blipFill>
        <p:spPr>
          <a:xfrm>
            <a:off x="1692360" y="3825720"/>
            <a:ext cx="1660320" cy="2221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C:\Users\A4F7~1\AppData\Local\Temp\Rar$DIa2644.30585\1624528581606.jpg"/>
          <p:cNvPicPr/>
          <p:nvPr/>
        </p:nvPicPr>
        <p:blipFill>
          <a:blip r:embed="rId2"/>
          <a:stretch/>
        </p:blipFill>
        <p:spPr>
          <a:xfrm>
            <a:off x="3848040" y="3828960"/>
            <a:ext cx="1660680" cy="2217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C:\Users\A4F7~1\AppData\Local\Temp\Rar$DIa2644.37208\1624528582314.jpg"/>
          <p:cNvPicPr/>
          <p:nvPr/>
        </p:nvPicPr>
        <p:blipFill>
          <a:blip r:embed="rId3"/>
          <a:stretch/>
        </p:blipFill>
        <p:spPr>
          <a:xfrm>
            <a:off x="6084720" y="3825720"/>
            <a:ext cx="1656000" cy="2214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C:\Users\Андрей\Downloads\1624529682694.jpg"/>
          <p:cNvPicPr/>
          <p:nvPr/>
        </p:nvPicPr>
        <p:blipFill>
          <a:blip r:embed="rId4"/>
          <a:stretch/>
        </p:blipFill>
        <p:spPr>
          <a:xfrm>
            <a:off x="-9791640" y="-15773400"/>
            <a:ext cx="25192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836280"/>
            <a:ext cx="7499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ложительная динамика уровня развития предметных и методических компетентностей педагог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вышение качества знаний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обучающихся основной школы в 2020-2021 учебном год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Улучшились результаты ОГЭ. Все выпускники школы закончили обучение на «4» и «5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Диаграмма 3" descr=""/>
          <p:cNvPicPr/>
          <p:nvPr/>
        </p:nvPicPr>
        <p:blipFill>
          <a:blip r:embed="rId1"/>
          <a:stretch/>
        </p:blipFill>
        <p:spPr>
          <a:xfrm>
            <a:off x="2505240" y="2873520"/>
            <a:ext cx="398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7:36:20Z</dcterms:created>
  <dc:creator>1</dc:creator>
  <dc:description/>
  <dc:language>en-US</dc:language>
  <cp:lastModifiedBy>Андрей</cp:lastModifiedBy>
  <dcterms:modified xsi:type="dcterms:W3CDTF">2021-06-24T10:40:09Z</dcterms:modified>
  <cp:revision>162</cp:revision>
  <dc:subject/>
  <dc:title>Министерство образования Российской Федерации Среднего профессионального образования Нижегородский машиностроительный техникум</dc:title>
</cp:coreProperties>
</file>